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64E4-4DC9-4DCB-8F0E-43F9DCBB0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814F-D9E5-46D7-8FF3-AE9B35291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13B-A613-464B-96DA-04B212845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CBAF-307E-4ACE-A1D8-E314B2407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EFDC-8D52-41DA-AF5A-D5BA9528D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F0537-2CB3-443E-8FD1-7F31F55ED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CCCEB-A10E-4AA4-B5EE-66245A8B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78FF8-E547-49EA-938F-BAE855430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F687D-74F1-4207-9EDF-43271DE23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CE737-FB6E-45B9-82D6-27A654FB9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B8A54-8EA0-4BE4-B81C-113559A0F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E1EFD-66B5-47EE-A1DA-CB423D06B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20FF2-01FB-4075-B01A-53DE5A5E1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E3B79-ECAC-480E-BB06-EA9A3FFBD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5C2EA-794D-4B00-8134-5E14EE988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B8E5A-536B-42B7-AE3F-2E7805089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6F2F-1D53-41FB-84A0-64632BE4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1D4B9-D7B3-44D9-9B07-D838DA7D7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03F9C-4791-444A-AD2F-A0E7376B8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CECC8-7255-4F5D-9CC1-01A3B4D5C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4749E-2C91-4CF3-9EEE-5C78F0821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55305-5CA3-4DA2-AA6F-1295A687F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5CB37-83E1-4F71-A66A-FDC7C94AB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55FCA-CF6D-42E7-AEC2-113A5815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0E77-D355-46D5-BA40-EC290E68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A217-A692-46FA-A50D-C86187AE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0230-28DE-484D-8F7A-A7FCFF159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78BB-883E-4B46-867B-CFD53BD61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C2E2-D851-4F2C-83B0-EC3F479B3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58AF-C122-444B-998D-ECEFA80E7EA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BB1B-9248-4339-8422-B6A13ACBD94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ing sticker dots, select two ‘themes’ you would like to discuss further.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corder and facilitator will be assigned to each group.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ilitators are encouraged to use the conversation starters (BLM L.2B.3) and coaching question stems for the dialogu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wo 20 minute rotations:  Themed-Discussion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ey Ques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do you currently align resources with prio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could resources be aligned</a:t>
            </a:r>
            <a:br>
              <a:rPr sz="2400"/>
            </a:br>
            <a:r>
              <a:rPr b="0" lang="en-CA" sz="2400" spc="-1" strike="noStrike">
                <a:solidFill>
                  <a:srgbClr val="000000"/>
                </a:solidFill>
                <a:latin typeface="Arial"/>
              </a:rPr>
              <a:t>with priorities more effectively?</a:t>
            </a:r>
            <a:endParaRPr b="0" lang="en-US" sz="2400" spc="-1" strike="noStrike">
              <a:solidFill>
                <a:srgbClr val="000000"/>
              </a:solidFill>
              <a:latin typeface="Arial"/>
            </a:endParaRPr>
          </a:p>
        </p:txBody>
      </p:sp>
      <p:pic>
        <p:nvPicPr>
          <p:cNvPr id="115" name="Picture 4" descr=""/>
          <p:cNvPicPr/>
          <p:nvPr/>
        </p:nvPicPr>
        <p:blipFill>
          <a:blip r:embed="rId1"/>
          <a:stretch/>
        </p:blipFill>
        <p:spPr>
          <a:xfrm>
            <a:off x="7308720" y="5079960"/>
            <a:ext cx="158436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olidation</a:t>
            </a:r>
            <a:endParaRPr b="0" lang="en-US" sz="20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20" name="PlaceHolder 2"/>
          <p:cNvSpPr>
            <a:spLocks noGrp="1"/>
          </p:cNvSpPr>
          <p:nvPr>
            <p:ph/>
          </p:nvPr>
        </p:nvSpPr>
        <p:spPr>
          <a:xfrm>
            <a:off x="456840" y="1904760"/>
            <a:ext cx="8543880" cy="47242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did you use?  Why were these effective [or not] during your dialogue?</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would you use during your SIP / BIP process?</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does a focus on aligning resources with priorities support the other 4 core leadership capacitie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nabling structures, conditions and processes are required to effectively align resources with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llective Self-Assessment</a:t>
            </a:r>
            <a:endParaRPr b="0" lang="en-US" sz="4400" spc="-1" strike="noStrike">
              <a:solidFill>
                <a:srgbClr val="0d469b"/>
              </a:solidFill>
              <a:latin typeface="Arial"/>
            </a:endParaRPr>
          </a:p>
        </p:txBody>
      </p:sp>
      <p:pic>
        <p:nvPicPr>
          <p:cNvPr id="122" name="Picture 5" descr=""/>
          <p:cNvPicPr/>
          <p:nvPr/>
        </p:nvPicPr>
        <p:blipFill>
          <a:blip r:embed="rId1"/>
          <a:stretch/>
        </p:blipFill>
        <p:spPr>
          <a:xfrm>
            <a:off x="1332000" y="1898640"/>
            <a:ext cx="6404040" cy="469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2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Leadership Frame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re Leadership Capac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 Board Improvement Pla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aching is one way of serving.  It’s a way of passing along the lessons learned from experience.  </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est leaders are teachers.  The best teachers are also the best learner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y know that by investing in developing others they are also developing themselv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gn="ct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enabling structures, conditions and processes for aligning resources with priorit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rther develop facilitation skills by engaging in courageous conversations focused aligning resources with priorities using conversation start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435880" cy="105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ds On</a:t>
            </a:r>
            <a:endParaRPr b="0" lang="en-US" sz="20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of ways you currently align resources with prioriti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 one strategy / approach / consideration per sticky n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e the strategies / approaches / considerations under ‘common themes’ (e.g. budget, human resour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9"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on: Discussion Groups</a:t>
            </a:r>
            <a:endParaRPr b="0" lang="en-US" sz="2000" spc="-1" strike="noStrike">
              <a:solidFill>
                <a:srgbClr val="000000"/>
              </a:solidFill>
              <a:latin typeface="Arial"/>
            </a:endParaRPr>
          </a:p>
        </p:txBody>
      </p:sp>
      <p:pic>
        <p:nvPicPr>
          <p:cNvPr id="11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0:00:43Z</dcterms:modified>
  <cp:revision>142</cp:revision>
  <dc:subject/>
  <dc:title>Slide 1</dc:title>
</cp:coreProperties>
</file>